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0080" y="2958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 мир информатики 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0360" y="882720"/>
            <a:ext cx="3762360" cy="23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320" y="4419360"/>
            <a:ext cx="762012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 для 8-11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Ответы на задания принимаются до 30 апреля 2012 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даний сдавать в электронном виде – приносить на флешке или присылать на электронный ящик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kola124@chelcom.ru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онкурс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1040" y="898560"/>
            <a:ext cx="84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1040" y="1344600"/>
            <a:ext cx="8428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В графическом редактор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soft Paint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ли другом растров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редакторе создайте черно-белое изображение окружност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Сохраните файл под номером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Увеличьте размеры изображения в два раза (меню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Рисунок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— </a:t>
            </a:r>
            <a:br>
              <a:rPr sz="1800"/>
            </a:b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Растянуть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/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Наклони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в группе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Растяну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становите величин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изменения 200% и 200%). Сохраните файл под номером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Откройте файл № 1. Уменьшите размеры изображения в два раз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(меню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Рисунок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—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Растянуть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/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Наклони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в группе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Растяну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установите величину изменения 50% и 50%). Сохраните фай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под номером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величьте размеры изображения в четыре раза. Сохраните фай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под номером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авните изображения в файлах № 2 и № 4, а также свойств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их фай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делайте то же самое с цветными изображениями (16-цветные рисунки формат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йте комментарии для обоих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34791" t="0" r="0" b="0"/>
          <a:stretch/>
        </p:blipFill>
        <p:spPr>
          <a:xfrm>
            <a:off x="5241960" y="1652760"/>
            <a:ext cx="3489120" cy="309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1040" y="75420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ahoma"/>
              </a:rPr>
              <a:t>Числовой ребус «БЛОКНОТ» 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Tahoma"/>
              </a:rPr>
              <a:t>из трех «ЛИСТ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040" y="1994040"/>
            <a:ext cx="70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ит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исловой ребу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70000" y="2774880"/>
          <a:ext cx="3287520" cy="1825560"/>
        </p:xfrm>
        <a:graphic>
          <a:graphicData uri="http://schemas.openxmlformats.org/drawingml/2006/table">
            <a:tbl>
              <a:tblPr/>
              <a:tblGrid>
                <a:gridCol w="469800"/>
                <a:gridCol w="469440"/>
                <a:gridCol w="469800"/>
                <a:gridCol w="469440"/>
                <a:gridCol w="469800"/>
                <a:gridCol w="469440"/>
                <a:gridCol w="469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311040" y="5148360"/>
            <a:ext cx="70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обычно, одинаковыми буквами зашифрованы одинаковые цифры, разными буквами — разные циф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1040" y="754200"/>
            <a:ext cx="75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61 монета, две фальши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1522440"/>
            <a:ext cx="835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ть 61 монета одинакового внешнего вида. Известно, что две из них — фальшивые. Все настоящие монеты одинакового веса, обе фальшивые — тоже одинакового веса, но отличающегося от веса настоящих мо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узнать с помощью трех взвешиваний на чашечных весах без гирь, легче или тяжелее настоящих фальшивые моне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Определять сами эти фальшивые монеты не требуетс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13120" y="3013200"/>
            <a:ext cx="521172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1040" y="754200"/>
            <a:ext cx="75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Кроссвор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4840" y="1459080"/>
            <a:ext cx="5105520" cy="4466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391000" y="457200"/>
            <a:ext cx="3753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1040" y="754200"/>
            <a:ext cx="7515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Три города и ст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Не забудьте указать адреса страниц с найденным ответо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14520" y="0"/>
            <a:ext cx="309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оиск информаци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11040" y="1628640"/>
            <a:ext cx="835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й город заменил Лондон на съемках нашего сериала о Шерлок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Холмс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С какой столицей связан провал второго крестового пох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исполком какого города как-то нагрянули сразу трое «дете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лейтенанта Шмидт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какой единственной европейской стране нет своих источнико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пресной во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веты на эти вопросы найдите в Интернете или по другим источникам информ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1040" y="5013360"/>
            <a:ext cx="347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е также, в каком городе установлен памятник, изображенный на фото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какое отношение он имее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 перечисленным вопро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05280" y="3870360"/>
            <a:ext cx="36990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8280" y="1923840"/>
            <a:ext cx="77724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Графические редакторы 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320" y="473400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Конкурс № 8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8920" y="905040"/>
            <a:ext cx="84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онкурс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1351080"/>
            <a:ext cx="842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векторном редакторе нарисован квадрат со стороно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0 пиксе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Изображение было сохранено в файле, размер которого составил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Кб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Разрешающая способность монитора при этом была равна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024 </a:t>
            </a:r>
            <a:r>
              <a:rPr b="0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768 пиксе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Чему будет равен размер графического файла, если сторону квадрата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величить в 2 раз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040" y="3317760"/>
            <a:ext cx="84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1040" y="3763800"/>
            <a:ext cx="8428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айл в формате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m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одержал рисунок квадрат со стороно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0 пиксе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Рисунок загрузили в редактор и сторону квадрата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величили в 5 раз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изменится размер графического файла? В обоих случаях изображение записывалось с глубиной цвета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4 бит на пиксел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8920" y="905040"/>
            <a:ext cx="84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Задач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онкурс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1351080"/>
            <a:ext cx="842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растровом редакторе было создан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черно-бело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ображение, которое сохранили в файле формата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m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Размер файла составил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350 Кб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Разрешающая способность монитора при этом была равна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024 </a:t>
            </a:r>
            <a:r>
              <a:rPr b="0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768 пиксе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После этого она была изменена на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800 </a:t>
            </a:r>
            <a:r>
              <a:rPr b="0" lang="ru-RU" sz="1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600 пиксе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Созданный файл был сохранен вновь. Каким будет его разм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1040" y="3317760"/>
            <a:ext cx="84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1040" y="3763800"/>
            <a:ext cx="84283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й графический редактор, растровый или векторный, точнее постро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окружность радиусом в 100 пиксел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окружность радиусом в 200 пиксел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 прямую линию с наклоном в 15 градус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) прямую линию с наклоном в 45 градус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8920" y="905040"/>
            <a:ext cx="84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онкурс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1351080"/>
            <a:ext cx="842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екторн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едакторе было создано изображение с размерами на экране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50 × 300 пиксе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При этом разрешение экрана составлял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96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p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Затем изображение экспортировали в формат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m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 разрешением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300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p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Каковы будут размеры изображения (в пикселях) при выводе его на экран? А при выводе на бумаг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user</cp:lastModifiedBy>
  <dcterms:modified xsi:type="dcterms:W3CDTF">2012-04-02T11:06:57Z</dcterms:modified>
  <cp:revision>3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